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43A-2062-4166-9F6A-90884BBF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785-DF43-462B-BFEC-3F999A6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B6689-8CE0-4143-8FEC-EA641AC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F5DD9-8774-4CFE-B8FA-841BE87A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C672B-7F13-4E31-BA71-F955AAF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9C5E4-D3AC-4F02-B38B-C1FBA50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8D14-FEF5-40A5-BCC8-16D883A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419F9-32E8-4DE1-AB44-08AE7FB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9F2F-F5EC-439E-9308-9D755E0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D02B4-AE2F-430E-93B4-7B6C5523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2137C-D6A1-42EF-9FBE-E0D0A1AA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CC30B-55AF-44B4-9A9A-DE11EAE1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E1E-BA43-4356-ABF3-976DF044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4E0B-DF42-49CE-8254-D680AD1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2DC3B-731D-4374-8F58-8E13478C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BCDD2-39F2-45BE-B7E6-53FF888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4819A-3AC3-43FB-9AF0-6C147636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E87E9-6B13-4B01-B59B-63EFBB9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933C7-0640-42D1-88F5-FD971A1A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79038-FB54-4607-A6F1-CD995BE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E501F-A485-41B9-9CAD-C4EC681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6FDC3-7E5D-456B-9B1D-FD85857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52125-517D-47C5-A7A1-C5662097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C0F-3C15-4E23-A3DA-C9D56957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B5CD0-71A1-44D0-A43D-6914BF05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742D-A1E1-4D7D-8F54-972F918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73D5B-891A-4AC3-BC71-060FCD2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00C5-4C66-49E8-B4AE-3C12DA1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C7A3-5E80-4095-96AF-6B35265C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F6484-D247-4CF3-9B6B-4DFFAEE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FF6A8-6907-40AF-A7F1-333556D7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B062-8CF5-4329-880F-5260DEA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8D7CE-6865-4736-8755-08E5E38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6ED1-1BCC-413A-AB70-3077751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E52-4607-455B-AA69-ECACB123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A2122-4F6A-432E-9F02-6E35A49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76FBA-3640-47C2-9D72-2C5CE230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5B9B-4636-4633-AACF-1FFC575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BF12C-EDAE-4D63-A67B-009E18B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1394F-C9AD-44C7-8429-6758A4D8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120E-A966-460A-82E0-38B43CC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E3E26-1405-4C9E-81A4-493803B2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1412-3BC6-456A-BA23-8834C0C6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373EA-D223-4883-B7FA-BD2A255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38774-22FE-47C9-B43F-E4A29DD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F4B-1F25-4F27-88BE-CD91F96E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33AB-E7FB-4BE9-B4CD-ECA7E08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DE07-3F98-4F80-940A-0483FA8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4F358-83F4-43C2-A6CC-5A08E5D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E028E-72FA-44A3-85AF-D052F915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4AA16-233E-4C3A-8BCE-3DD299AF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25962-7F58-41EE-8B9A-07C58161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D3CED-1B8D-43BC-92B2-8B01385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18911-61FC-48D2-BC27-5EB0B2B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00F4B-2362-4E9C-97FF-052A741C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87DDC-84DF-4772-B59C-2CF6073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47FF-CD9D-4168-928F-7993F13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2EB26-48D2-47A5-AC1B-D416DE68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CAE09-67C6-4D50-B0AD-D524011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4907D-5629-448D-B243-BAF1D15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33CFF-87FF-4A5E-B4E7-5F9FF2F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8DF69-5D9C-41B4-94AF-7B14AD3F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33CA1-55CD-420D-9097-3CE20B01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B97C9-D699-4E72-9E9F-E0BEC6D1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D4CE8-6A70-4D3C-8045-A255D233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E8956-0001-4828-8767-A20682E0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41665-18BC-4EDF-85D4-CBB8E1A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01A2-C58D-4E63-B0AD-E231C45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3DC7E-9C17-4956-9CBF-A2FD9EF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7E75E-8F2C-4A88-8566-B197E16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EBD6A-983D-456D-9006-B9DFA7A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598E3-3EA3-49E6-ABA1-1A9E324F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DBBAA-9BB4-4E80-B16C-E1E2903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22579-C0EF-4F0F-920A-6950D89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CFA93-7045-4E98-A85D-F67D753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2FD5D-AFF4-40F3-9FD0-84F3E1A6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57F85-BEA6-4A47-B0C5-CE09A00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4DE0F-C894-46AE-A6DF-C3883E66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C21B-D620-4888-9823-AC807961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775E0-3DD1-482F-A60F-75D7CFD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F840E-A88A-42A2-9228-E766811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DC1A6-FCD6-4BE4-8F3D-A319614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3417E-F908-42D0-921C-9FCBBD9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FF8EF-23EF-47EE-937D-E22ED59D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3A791-C166-4344-A2B5-BAF7C42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84B8D-E9F1-40CC-8E9D-7D8CD79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A40A3-9F8B-4F53-9B7A-03CA175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4A4DE-A7D4-4810-81D9-01FB9F8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3C661-951F-46F0-986D-73E56045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94B-A66F-41AA-AEC1-06774A7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110E2-D288-474E-ACA3-F93E2F57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81AFB-EE64-47DA-8E11-391388CF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7BD20-B8CC-40D7-8C80-84F7185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E9E47-2063-43CF-A362-9368B810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9F865-99C2-499F-A667-447BF9D9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5A465-5CA3-4E62-8360-3FFD36AA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FECA0-1D2B-4D8A-A953-D14D1C38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8E81B-092D-4B15-83DD-57A0C6D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F049D-3EB0-4DB2-8A84-4CC93A7D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FE9C5-934F-4EC9-9A6A-C6582EE9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367-7171-4021-AAD0-1F01DD9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807A2-E3E0-411B-A9E1-FB18786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F783A-EE53-470F-B3E4-CEA14CC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47A95-F773-4C57-AC7D-96425928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951E1-F990-4C7E-846F-E825D668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86934-C692-4C8A-9DC0-A651C14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C42B2-455E-4C45-A61F-0AF6BF4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0838F-E14F-4925-87E0-0ACEAB3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AE37C-9DBA-4CD4-A1BE-58DDA70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A0E91-DC8C-4989-B21F-7B178C37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7FF94-88A2-4A91-A91B-25DDE62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2D9-BBC0-4187-BAE0-D97D5A8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B00-0616-470F-8574-F0DC8B03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90F15-8CD3-4475-840E-9576CA2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9A5F3-4548-4B0F-B9BE-28FD3E1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F9787-03C1-4FF8-A780-C83C8D7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3D0E9-E817-4813-9131-E7FA59A9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F13D2-FB51-430F-BB72-9B9BCC18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8C389-E299-47F6-99CD-D27A21A5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F8745-7881-4E65-BA7D-60A6361B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79ADD-72B4-437F-8319-73EA75D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B80AA-5121-447B-A077-4CEF11F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FF0B9-5517-46A3-BA92-859D3C7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FFDD-C784-44E2-835C-989F753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180CA-7E3C-4C5C-947B-BF30A23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58897-55D5-48A3-B7FC-3456EAE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10D5D-E326-4ADB-AEF1-955A244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061A3-146A-42F0-B51E-4A7DAD5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046EA-CC46-43FF-BD94-380E2D5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A47E4-C2D1-4600-BE87-FDDFAE1D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F2898-AE35-4F34-AE31-FB941038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75E3F-9C6E-4B0F-8046-3FAAC51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CA96A-CD1F-4354-99FC-C75A656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4DB6C-5E98-4602-8788-09101D71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4F89-8943-4F4C-9246-726CD00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22344-77BA-47FB-B01A-EFD2AC1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350AA-D68E-45EF-BB2C-75B18BE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4D324-B53C-435B-ACB6-1F46480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4B9A9-E49B-4BD8-A7F2-F5644F2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EEFC3-7B8C-4542-A9C7-7C4BFDC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E0357-26AF-413F-A59E-413AF345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E34BC-1597-4168-88C2-C3A1DD5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2AD7F-215A-4EF3-A3F9-D8930867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9FA2D-A458-4D09-A77C-AEB62904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6C253-4457-4032-ACB8-136DFF88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4B0-FE69-4D58-A8EA-77545274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C9EEB-0DA4-40DB-8BCB-75804C44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7E59F-7680-42D2-99AE-A457957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717B5-6C7A-41A5-8239-F3B4A14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EE1C2-98E2-4B86-8A26-62C5C76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194D8-7DFA-4DF0-B842-69967C99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18236-77FF-4092-8428-55E0669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B0C782-B78F-4466-855F-931995E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0B287-1EB1-426A-B4B7-FB537C9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419CD-5C0C-4B74-A393-237C69EE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553E7-3452-4DAA-A7E7-6175DE73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B22-D9B9-4A70-952D-C50A1E0F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155FA-AAC4-4732-91D8-952E18A3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D1BB-A90B-495B-B8C0-1E4EA4B5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3FFC-6E16-4FBD-87BB-6850262C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C09E-6968-4951-B055-C197909F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E2DC-472C-46C3-BBCC-B4D9959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8141-546E-4CF4-B67E-955895B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37B-327C-45FD-9F34-5D7BFA4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3962-04DD-463A-B4B9-F923DAB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FDBB-FA2A-4A92-83A1-31AF53E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CA85-6E14-4AFE-AE81-4290568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03DD-3189-4E51-B5DF-91CFA1F3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EB06-FB53-448C-91FF-FF1AC32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D8FF-650E-49F0-8B59-40B1B970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296F-2966-4412-8647-B6B47D62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DBB6A-54A9-43A8-86D9-FB3DFF45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F4194-BF80-4DD4-85E7-E6F25F9C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ECCFE-6C5B-4185-A85F-96B143E7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EB5-64D4-494F-9905-A1937803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9EAA7-E31E-4DEF-9CA8-FF8346E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D7816-6BF2-4651-8700-A1763291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9876B-1002-4CCF-84BC-75177AB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3AA97-17E4-427B-8735-D3D1C7B4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51F79-1DF6-4CB2-9029-9E06844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EE964-09EB-4715-8E27-CBFDC99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682C8-685B-41DB-BB25-453F33CD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37B18-1189-4512-9153-037DF828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83E9F-3F2E-4435-8D3C-DED1D39D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66F8-0991-46A9-828D-309001D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49D-48D2-42DE-A225-FE59988A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EA30D-C90A-499D-9926-A4D8859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0A76-CDC1-4F72-8D3C-74E7CDC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278A-BEA8-4C0E-A18F-AFD57AD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335C-A2F8-4955-80B6-FAB44BF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9DF5B-9AB7-40B5-A54F-537193EC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3B8A-FFBB-4F54-AEF0-0DCC24C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B21F-16B8-4951-94CF-35F5849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CC38-3835-49F1-B2A1-8644C25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385A-04C4-49F8-94BD-CEFB67B6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28C23-DC22-4A4C-8B17-0501212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C8A-BAB2-4563-A8F1-432A907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0C807-291F-43AB-BED0-B840D7B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F70C5-D9C7-456B-B343-5179F066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82B8-F81F-4DEE-9296-A541ECB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24DFF-9B7D-4A98-98D8-94BDE6A8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50C1-317B-4550-900E-DCA3EB3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C7A4-BCF1-4E36-98E6-18BD6CC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DD04-3B66-42DC-8077-D4FED4D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1E00-CA43-48EE-AE8A-EE58BC8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0E6D8-1A98-44D1-A04E-CCFD3C4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02D0-D18F-48AA-BD2D-074F2568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EA7-FDC1-4D33-A4FC-20DE8A2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4B64-7E11-423B-A075-AA6F75AD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3BCA-6F42-4A2D-95CB-145128F1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97DE1-B1C8-4D86-95FB-2AF34B36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2124B-10A3-498E-B901-3686EDC8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69124-36F1-43D9-81A5-66DACFD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5643-AA01-4D61-90F7-6D79928F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45EC-A906-4283-8A9B-331A86F9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705F-A734-43E8-9F56-C3AF3565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76D1-1630-4697-9805-5C684DF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5158-75CD-4220-AF12-69E582F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F83-D370-4766-A5BB-24960CF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01D4-5D23-4EB3-9CFB-DEA5126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CB98-6CAA-47C7-BA72-106009F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7D5D-D693-4BF3-8B18-25D54D1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5323-CFFE-4F7B-AF7A-92ABC392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36EB-C258-42E2-8875-1183C2F0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234E7-3E6C-4A0B-8878-50614A2E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EDAC9-2708-4434-90D7-B7A3304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8CE5D-22C9-4A73-92D2-BF6BE80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9723E-6952-433D-A858-71D6FFB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B5D0-E11E-4572-8F73-B2AC515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CA7-AF93-4792-87AD-BB8CC25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20C1-F89C-414A-A8D6-B4278318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EF3FA-6179-4B6B-8A38-E3D0886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5BA4-A783-4F53-8D5F-289380B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1B58-7D4F-4087-9E73-E713F60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2CAD1-CF79-4AE8-B3F0-DBA9EDF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D897-24C8-4041-B703-60B2AA50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D991-B451-4780-AF93-2C578A16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C1C7D-CA62-430A-BC9D-01E4AE62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81F61-727E-4981-82D5-797FFF40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601E1-DF07-4157-801C-FBF5110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8012-4258-4DE6-A0D1-DF657A848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DC6-FDAF-4F7F-9D7D-2C4C39A52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D3E-7635-4672-8500-7E1ED6D1E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EA4F-AEB1-4540-9D1C-7CD0566E0A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172-6123-40DC-B031-7882BD63E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C16-5671-4475-85E8-D15A35B1B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1E7-4E8B-4648-BDDB-F1D18E073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05D-BC51-482B-8EAA-B1B54FEFC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E72-1EAA-4DF7-9221-72637943C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88D-62AD-486A-883B-041576FCC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ED6-17A2-4E9C-9F66-A39DB7D34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1AF-B1D8-4FCB-BF94-2E256973A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AD7-7E1B-4DC0-808C-17027FF81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8B9D-004C-4AC5-A9FA-1B0D01D95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4E40-6709-4089-BBB6-610F382F8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072-4F15-4828-9A2E-9A3419F05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9BD-DC09-472C-9BFB-F13091FF9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FE0-779D-42E0-8725-45D8C8A48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D2CC-DF1C-4793-BFF8-ED56255E3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2F3-3523-4E10-9558-8DF5542A0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A7B-799A-4ECF-98DC-5AA2ACEF3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106-2782-4BFD-A214-0DA6BC4C8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C8F-C5C6-4894-A7E7-034C783F1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D54-E326-4E18-982A-7CAD16AA5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173-E361-4319-8E7D-DC641AA01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E90-803B-4E26-B379-112577451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2134-A1CF-4970-8CE6-11E1AE715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FB8F-8F16-4842-853D-C46FCC272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860-A354-42AE-8BAB-709F3E866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751-947B-4387-9BE8-4C92B8F99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A27-C35C-4E71-9DE3-68C4B43A6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3136-FF58-4A89-ADC1-F067092A3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465A-4BC0-460D-9EF5-F569BED43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BDD-90E2-462E-B769-4C4811B3C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4853-6AC8-4808-A4DA-EB26D62C0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539-5AB8-4AD1-A2DB-2F5274FCA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D27-EBD1-4DE6-8EEB-6FF2752C5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B0C-A67C-4656-9674-4FCD99CD1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4557"/>
          <p:cNvPicPr/>
          <p:nvPr/>
        </p:nvPicPr>
        <p:blipFill>
          <a:blip r:embed="rId1"/>
          <a:stretch/>
        </p:blipFill>
        <p:spPr>
          <a:xfrm>
            <a:off x="101520" y="1263600"/>
            <a:ext cx="84758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69633" descr=""/>
          <p:cNvPicPr/>
          <p:nvPr/>
        </p:nvPicPr>
        <p:blipFill>
          <a:blip r:embed="rId1"/>
          <a:stretch/>
        </p:blipFill>
        <p:spPr>
          <a:xfrm>
            <a:off x="376200" y="2309760"/>
            <a:ext cx="8391600" cy="2238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806472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468360" y="3438360"/>
            <a:ext cx="806436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468360" y="385128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468360" y="4211640"/>
            <a:ext cx="8064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68609" descr=""/>
          <p:cNvPicPr/>
          <p:nvPr/>
        </p:nvPicPr>
        <p:blipFill>
          <a:blip r:embed="rId1"/>
          <a:stretch/>
        </p:blipFill>
        <p:spPr>
          <a:xfrm>
            <a:off x="361800" y="1195560"/>
            <a:ext cx="8420400" cy="4466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848720" cy="318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11280" y="315108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539640" y="4211640"/>
            <a:ext cx="784872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611280" y="494172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611280" y="5300640"/>
            <a:ext cx="784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7585" descr=""/>
          <p:cNvPicPr/>
          <p:nvPr/>
        </p:nvPicPr>
        <p:blipFill>
          <a:blip r:embed="rId1"/>
          <a:stretch/>
        </p:blipFill>
        <p:spPr>
          <a:xfrm>
            <a:off x="361800" y="905040"/>
            <a:ext cx="8420400" cy="5047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611280" y="2871720"/>
            <a:ext cx="792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11280" y="325116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792180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684360" y="436572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7"/>
          <a:stretch/>
        </p:blipFill>
        <p:spPr>
          <a:xfrm>
            <a:off x="611280" y="4724280"/>
            <a:ext cx="792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8"/>
          <a:stretch/>
        </p:blipFill>
        <p:spPr>
          <a:xfrm>
            <a:off x="539640" y="5094360"/>
            <a:ext cx="79218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9"/>
          <a:stretch/>
        </p:blipFill>
        <p:spPr>
          <a:xfrm>
            <a:off x="539640" y="5473800"/>
            <a:ext cx="792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09520" y="888840"/>
            <a:ext cx="8724960" cy="5419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0592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442764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79600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521964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781200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2843280" y="2330280"/>
            <a:ext cx="86508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5848200" y="2330280"/>
            <a:ext cx="86544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6659640" y="271764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730872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6083280" y="351936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1116000" y="436572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3995640" y="436572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8164440" y="4734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3708360" y="5157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4211640" y="59691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9410" descr=""/>
          <p:cNvPicPr/>
          <p:nvPr/>
        </p:nvPicPr>
        <p:blipFill>
          <a:blip r:embed="rId1"/>
          <a:stretch/>
        </p:blipFill>
        <p:spPr>
          <a:xfrm>
            <a:off x="176040" y="1052640"/>
            <a:ext cx="8791920" cy="4752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8244000" y="2276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8244000" y="2708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8244000" y="3078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824400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824400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5435640" y="472428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8373" descr=""/>
          <p:cNvPicPr/>
          <p:nvPr/>
        </p:nvPicPr>
        <p:blipFill>
          <a:blip r:embed="rId1"/>
          <a:stretch/>
        </p:blipFill>
        <p:spPr>
          <a:xfrm>
            <a:off x="352440" y="1290600"/>
            <a:ext cx="8439120" cy="4276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7524720" y="378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6588000" y="48690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7352" descr=""/>
          <p:cNvPicPr/>
          <p:nvPr/>
        </p:nvPicPr>
        <p:blipFill>
          <a:blip r:embed="rId1"/>
          <a:stretch/>
        </p:blipFill>
        <p:spPr>
          <a:xfrm>
            <a:off x="476280" y="1104840"/>
            <a:ext cx="8191440" cy="4648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2085840" y="179244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4211640" y="184464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6218280" y="1844640"/>
            <a:ext cx="61416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8018640" y="1844640"/>
            <a:ext cx="61416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6"/>
          <a:stretch/>
        </p:blipFill>
        <p:spPr>
          <a:xfrm>
            <a:off x="1979640" y="2295360"/>
            <a:ext cx="614160" cy="31932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7"/>
          <a:stretch/>
        </p:blipFill>
        <p:spPr>
          <a:xfrm>
            <a:off x="3986280" y="2349360"/>
            <a:ext cx="614160" cy="3193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8"/>
          <a:stretch/>
        </p:blipFill>
        <p:spPr>
          <a:xfrm>
            <a:off x="6075360" y="234936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9"/>
          <a:stretch/>
        </p:blipFill>
        <p:spPr>
          <a:xfrm>
            <a:off x="7885080" y="2286000"/>
            <a:ext cx="61452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10"/>
          <a:stretch/>
        </p:blipFill>
        <p:spPr>
          <a:xfrm>
            <a:off x="1042920" y="3789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1"/>
          <a:stretch/>
        </p:blipFill>
        <p:spPr>
          <a:xfrm>
            <a:off x="826920" y="43941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2"/>
          <a:stretch/>
        </p:blipFill>
        <p:spPr>
          <a:xfrm>
            <a:off x="755640" y="5013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3"/>
          <a:stretch/>
        </p:blipFill>
        <p:spPr>
          <a:xfrm>
            <a:off x="4932360" y="379872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14"/>
          <a:stretch/>
        </p:blipFill>
        <p:spPr>
          <a:xfrm>
            <a:off x="4932360" y="438480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5"/>
          <a:stretch/>
        </p:blipFill>
        <p:spPr>
          <a:xfrm>
            <a:off x="4932360" y="4878360"/>
            <a:ext cx="2305080" cy="5032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6"/>
          <a:stretch/>
        </p:blipFill>
        <p:spPr>
          <a:xfrm>
            <a:off x="4932360" y="5383080"/>
            <a:ext cx="230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56324" descr=""/>
          <p:cNvPicPr/>
          <p:nvPr/>
        </p:nvPicPr>
        <p:blipFill>
          <a:blip r:embed="rId1"/>
          <a:stretch/>
        </p:blipFill>
        <p:spPr>
          <a:xfrm>
            <a:off x="857160" y="1790640"/>
            <a:ext cx="7429680" cy="3276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2511360"/>
            <a:ext cx="388944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8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889440" cy="319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0" y="4365720"/>
            <a:ext cx="38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16360" y="2430360"/>
            <a:ext cx="388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4716360" y="3068640"/>
            <a:ext cx="388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4716360" y="3645000"/>
            <a:ext cx="3889440" cy="576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4716360" y="4221000"/>
            <a:ext cx="38894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55300" descr=""/>
          <p:cNvPicPr/>
          <p:nvPr/>
        </p:nvPicPr>
        <p:blipFill>
          <a:blip r:embed="rId1"/>
          <a:stretch/>
        </p:blipFill>
        <p:spPr>
          <a:xfrm>
            <a:off x="190440" y="1847880"/>
            <a:ext cx="8763120" cy="31622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76360" y="454644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3554280" y="4121280"/>
            <a:ext cx="574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651640" y="458136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667640" y="4140360"/>
            <a:ext cx="649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54276" descr=""/>
          <p:cNvPicPr/>
          <p:nvPr/>
        </p:nvPicPr>
        <p:blipFill>
          <a:blip r:embed="rId1"/>
          <a:stretch/>
        </p:blipFill>
        <p:spPr>
          <a:xfrm>
            <a:off x="157320" y="942840"/>
            <a:ext cx="8829360" cy="497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755640" y="196992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755640" y="4437000"/>
            <a:ext cx="784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684360" y="4807080"/>
            <a:ext cx="784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8"/>
          <a:stretch/>
        </p:blipFill>
        <p:spPr>
          <a:xfrm>
            <a:off x="684360" y="5157720"/>
            <a:ext cx="784836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9"/>
          <a:stretch/>
        </p:blipFill>
        <p:spPr>
          <a:xfrm>
            <a:off x="755640" y="5526000"/>
            <a:ext cx="7848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2231" descr=""/>
          <p:cNvPicPr/>
          <p:nvPr/>
        </p:nvPicPr>
        <p:blipFill>
          <a:blip r:embed="rId1"/>
          <a:stretch/>
        </p:blipFill>
        <p:spPr>
          <a:xfrm>
            <a:off x="324000" y="1266840"/>
            <a:ext cx="8496000" cy="4324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539640" y="2008080"/>
            <a:ext cx="583272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468360" y="236844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395280" y="271764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395280" y="4159080"/>
            <a:ext cx="8064360" cy="319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395280" y="450864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468360" y="486900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539640" y="5186520"/>
            <a:ext cx="806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47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